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275-9C99-47A1-B086-9862C738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B7B-6CB7-4F9E-96D0-BAC9BA5E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6679-E729-4220-A72A-E068FFF3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030-395F-47ED-B521-ACE75840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A42-8CB7-4C33-AFF9-2E09320C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E1B-81C9-40C4-A198-289E7F5A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6048-7EAC-4493-BFF2-2FD989C0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3AB-D831-4643-869A-28516E7B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1CB0-5465-4875-BF27-3F694971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6AB-ABAD-48CD-84D6-2886E8A1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0EA-40FF-4BCE-A4F6-0E4A32B3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597-F44C-4F9A-A00C-D158146E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5A9F-3EB2-4B59-9B7C-BEBBB13BF720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68280"/>
            <a:ext cx="9144000" cy="808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ربي في ستر  دماك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َ يَا حَبي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نْ فَدَانِي إِذْ قَضَى فَوْقَ الصَّلِيب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دْ وَجَدْتُ فِيكَ غُفْرَانَ ذُنُو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غَطَاءُ الْحُبِّ يَخْفِي لِي عُيُوب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2060640"/>
            <a:ext cx="899172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َ يَا يَسُوع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حَنَانِكَ تُكَفْكِفُ دُمُوع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نْتَ تَحْمِينِي مِنَ الشَّرِّ الْمُرِيع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ثمَّ تَهْدِينِي إِلَى الْمَجْدِ الرَّفِيع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2060640"/>
            <a:ext cx="899172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َ يَا رَجَائ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رْفَعُ الرَّأْسَ بفَخْرٍ فِي السَّمَاء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كْمُنُ فَرَحِي هُنَاكَ فِي الْعَلاَء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مَعَ الأَبْرَارِ أَشْدُو باِلثـَّنَاء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2060640"/>
            <a:ext cx="899172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PSE</cp:lastModifiedBy>
  <dcterms:modified xsi:type="dcterms:W3CDTF">2004-03-12T15:50:18Z</dcterms:modified>
  <cp:revision>23</cp:revision>
  <dc:subject/>
  <dc:title>Slide 1</dc:title>
</cp:coreProperties>
</file>